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29408438" cy="19299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1D3-8C9D-465B-AC58-9B580E90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18E-DF85-4912-9D31-45D5323F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A12-8FC6-4663-BF93-B9046883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8F2-101F-4F17-B91D-49765433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27E-C9CF-43EB-BACB-E29F94AC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454-BD47-4F41-9E3D-20B894B0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362-BF01-4F32-9B56-3522BC7E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081-D60B-4488-83F8-32891398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29E-8AEC-418A-8A0E-45826325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868-8ABA-4C5F-9FD0-2A7ECA11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B3F-EA49-4273-9E6E-63A21B89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1C5-B363-48D4-BE71-745F4F0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481E-08F8-42E9-9977-F74D09829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d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243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3353040" cy="244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3030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d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552680"/>
            <a:ext cx="655308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notated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041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d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786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477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7:55:20Z</dcterms:created>
  <dc:creator>New Hartford Central School District</dc:creator>
  <dc:description/>
  <dc:language>en-US</dc:language>
  <cp:lastModifiedBy>New Hartford Central School District</cp:lastModifiedBy>
  <dcterms:modified xsi:type="dcterms:W3CDTF">2010-05-20T16:48:01Z</dcterms:modified>
  <cp:revision>8</cp:revision>
  <dc:subject/>
  <dc:title>Annotated Sketches</dc:title>
</cp:coreProperties>
</file>